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4333-0E55-4BAA-B126-A31843334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4CA8-D382-4825-82EA-906DCBCEA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E70-192B-46E0-A4BA-C4E898300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2F8A-6D1B-41BE-804F-EC4FECCC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375C-1686-4EC5-BED9-5B0C0BAF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B980-C1B1-4FAA-8CB5-846996054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CDB6D-C273-4195-BE92-77EC21919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0AD37-B822-4D7A-AA2A-44CA0633D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C3870-74EA-473B-8763-2DE0DBCF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808F-80E3-4E88-9F2F-62B28EDB8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9F7F-722B-421F-981B-FAEEC5C8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ED0B-BAEC-4085-8691-3C50CFF5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41904-FCBF-4284-98FE-2482E3A5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BDD9-E015-42A6-9ADC-C392C941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A6AD5-DCEA-4DD7-9D58-94319220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9F904-0163-4A6F-8522-E3C6F227C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8742-65C0-4E74-9859-E57FB850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E4CB-07B6-40C7-AE07-FC7958080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2A35-646A-4DEE-A08E-8F242AC4E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1C08-444D-4BE6-BE4B-6F09A0097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086B-7344-466D-8200-7997985F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33D0-AB2A-45E7-9433-E89C9C2BD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4491-C41E-462F-BE07-F065BD1B3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E091-F29B-4F6E-9CB5-75168B06A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6ED6-A24D-4B54-ACE4-A8AE3C951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05D3-4C16-440E-AEB7-C2C7E9A189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1280"/>
            <a:ext cx="6400800" cy="177336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2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생활과 일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115640" y="3886200"/>
            <a:ext cx="7056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상생활에서 ‘일’이 갖는 의미는 무엇일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’은 자본주의 사회의 경제활동과 어떤 차이가 있을까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실천적 관심의 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실천적 관심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의해서 지배되는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에서 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‘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일’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은 특별한 의미를 갖는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이란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696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어떤 기획에 기초한 외부 세계에서의 행위로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체적인 운동을 통하여 기획된 사태를 일으키려는 의도를 특징으로 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&gt;(Schutz, 1973: 212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단순한 생각의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숨겨진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체적인 운동을 요구하는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드러난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실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vs.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경제활동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/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임금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재생산 노동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소비활동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28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아는 일 속에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을 통하여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자신의 현재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과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미래를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특정한 </a:t>
            </a:r>
            <a:r>
              <a:rPr b="1" lang="zh-CN" sz="2800" spc="-1" strike="noStrike">
                <a:solidFill>
                  <a:srgbClr val="000000"/>
                </a:solidFill>
                <a:latin typeface="굴림"/>
              </a:rPr>
              <a:t>시간 차원으로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통합한다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말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글쓰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노동하기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책 읽기 등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신체운동을 통해 내적인 시간에서 외적 시간으로 전환이 이루어진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외적인 공간과 시간 속에서 발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일하는 자아만이 자신을 주체로서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그리고 현재형으로 경험하며 하나의 통일체로 실현한다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타인과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소통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한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회적인 ‘일’을 수행하는 행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소통은 사유의 기호인 ‘표현적인 장’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3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행위를 통해 일상세계의 서로 다른 </a:t>
            </a:r>
            <a:r>
              <a:rPr b="1" lang="zh-CN" sz="3200" spc="-1" strike="noStrike">
                <a:solidFill>
                  <a:srgbClr val="ff0000"/>
                </a:solidFill>
                <a:latin typeface="굴림"/>
              </a:rPr>
              <a:t>공간적인 전망을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 조직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내 신체의 지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여기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공간 좌표의 중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&lt;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현재적인 도달거리 내의 세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의 역할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4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하는 자아의 온전한 흐름을 통해 일상에서 실천적으로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합한 부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을 발견하고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것이 우리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사유흐름의 형식과 내용을 결정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인간학적인 일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자본주의 사회의 경제활동으로 환원되지 않는 “일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객관주의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에 대한 비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01:23:53Z</dcterms:created>
  <dc:creator>Staff</dc:creator>
  <dc:description/>
  <dc:language>en-US</dc:language>
  <cp:lastModifiedBy>Staff</cp:lastModifiedBy>
  <dcterms:modified xsi:type="dcterms:W3CDTF">2009-03-23T05:54:27Z</dcterms:modified>
  <cp:revision>6</cp:revision>
  <dc:subject/>
  <dc:title>4-2 일상생활과 일</dc:title>
</cp:coreProperties>
</file>